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52B4-16D7-40F7-A89C-56FD71187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6EBE-83A4-4F1D-A5BC-81DDC891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4870-853F-4342-943A-993768573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8C01-42FD-4CEA-B903-78A6B6804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4B90-2CC0-4ED9-AEB7-FAA33E027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FFBE-580D-4DB1-B050-47C4F881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A6C0-4DD5-49AC-A1A9-DD19941B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4922-D001-4B55-A186-334DA859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80B96-0EEB-4849-A3EA-9DF6637C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72E9-112E-4467-9664-D8BCD0D0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D952-45CB-49DA-B05B-52930BAE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E3E5-34CE-48CD-B941-7C04B5CC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2C48-436B-4175-A2F7-D4754316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81AF-EF57-4B46-84FB-71952E6F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F99D6-E322-4B12-87AA-FAEDD5C7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0F98-824B-4D6D-A0D5-6C802423E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05E9-8817-422F-9472-DA9E804A8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34A2E-2FF2-4D78-BDEF-CCD987701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DB909-E942-4993-9FAE-4AEA6DF8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E47EC-362B-4ED2-9093-47FC1255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6F116-6946-4C3E-8C28-39E94362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7C579-FD17-4EBE-ABD9-AEB057A6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AA6E-EF2E-429A-8E6F-AD9A4E0F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F2EFE-9414-41DB-AF03-D1748C94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FFCE5-39E4-4F01-93BE-3019F4A7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01B70-E494-4C2A-85C5-4E744CBE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D3C9E-93B5-4DE3-8952-F04EA8B0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B94D0-2C73-42C8-97E1-709AF443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D18FD-80CD-41E5-8754-057938F2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4291F-A6CA-46BA-82FD-89A154520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D010A-4E58-4342-AEF9-CFE34F7AD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7444E-ABB1-4ABC-BB39-A8DA37E6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6A0E1-FA1B-44AB-AC44-AD55F944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A0AF-0834-4FDF-891B-D9BFA7BD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8F2F8-2C24-41C4-AC47-C644D43E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B279E-4E6D-45CD-A236-E484B140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441E8-3AFA-447F-8228-EDAE284F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14524-4D6B-412A-8976-ABD156AE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33916-1775-4E28-8EAE-90FE4933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95B71-8A0B-46E1-9FB6-118FB3F2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920AE-6E69-4F92-A162-0D396B15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7285D-E732-4083-906E-E80E690D4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A29B7-1352-46A5-B376-5C071B2A2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7E32-99DD-4FF2-ADB9-5ABB1107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B662-D3F0-4295-A5A7-A247E075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62B3-27DD-42A2-861F-2F96E9D8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D98C-EFD7-422B-8EF4-5F3CDDA5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56C8-F301-45DF-B044-F2A3BE6B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0869-4265-4977-873E-23491F0C38F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0C6B-AA2A-429A-AC68-0A04CBAC2B5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5BEB-7A2F-4FA2-AFBB-0E6763E60DC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2777-B03F-4E39-BEB4-2BB4C655E3A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17680" y="1352520"/>
            <a:ext cx="7887960" cy="19144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solidFill>
            <a:srgbClr val="f1fbfd"/>
          </a:solidFill>
          <a:ln w="25560">
            <a:solidFill>
              <a:srgbClr val="000000"/>
            </a:solidFill>
            <a:miter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3495c"/>
                </a:solidFill>
                <a:latin typeface="Constantia"/>
              </a:rPr>
              <a:t>By:  Eric R., Bree, Lauren, and Ariel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trod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d as energy fo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om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choo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usines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y do they use it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newable resour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most fre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 was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oesn’t pollute the ai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7" descr="http://ga.water.usgs.gov/edu/graphics/wuhytypicalplant.gif"/>
          <p:cNvPicPr/>
          <p:nvPr/>
        </p:nvPicPr>
        <p:blipFill>
          <a:blip r:embed="rId1"/>
          <a:stretch/>
        </p:blipFill>
        <p:spPr>
          <a:xfrm>
            <a:off x="3943440" y="990720"/>
            <a:ext cx="50022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ow it is used toda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33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d as electric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pplies 10% of the world’s electric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re people are using water pow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ue to the decreasing amount of fossil fue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2" descr="C:\Documents and Settings\User\Local Settings\Temporary Internet Files\Content.IE5\9YSMW0G9\MPj04387110000[1].jpg"/>
          <p:cNvPicPr/>
          <p:nvPr/>
        </p:nvPicPr>
        <p:blipFill>
          <a:blip r:embed="rId1"/>
          <a:stretch/>
        </p:blipFill>
        <p:spPr>
          <a:xfrm>
            <a:off x="4648320" y="2787480"/>
            <a:ext cx="40384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water cyc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olar energy heats on the surface causing the water to evaporat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is water vapor condenses into clouds and falls back into the surface as precipitatio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water flows through rivers back into the oceans, where it can evaporate and begin the cycle over again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4" descr="http://members.optusnet.com.au/benjamink/Water/TheWaterCycleWebQuest_files/watercycle.gif"/>
          <p:cNvPicPr/>
          <p:nvPr/>
        </p:nvPicPr>
        <p:blipFill>
          <a:blip r:embed="rId1"/>
          <a:stretch/>
        </p:blipFill>
        <p:spPr>
          <a:xfrm>
            <a:off x="4699080" y="1752480"/>
            <a:ext cx="444492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ow water generates pow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 dam is built to trap wat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usually in a valley where there is an existing lak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ater is allowed to flow through tunnels in the dam, to tur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turbin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to drive generators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dam is much thicker at the bottom than at the top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pressure of the water increases with depth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ydro-electric power stations can produce a great deal of power very cheaply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4:32:29Z</dcterms:created>
  <dc:creator>Jason</dc:creator>
  <dc:description/>
  <dc:language>en-US</dc:language>
  <cp:lastModifiedBy>Jason</cp:lastModifiedBy>
  <dcterms:modified xsi:type="dcterms:W3CDTF">2009-05-01T00:37:22Z</dcterms:modified>
  <cp:revision>14</cp:revision>
  <dc:subject/>
  <dc:title>Water Power</dc:title>
</cp:coreProperties>
</file>